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435-14C2-4759-88BA-87398D22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71D-B0F3-4670-A42C-7C5DC104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DAC-2BE2-4453-B71A-E4DC9AA7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851-76D7-4B6A-A82A-CD662180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B5FE-5E78-42C1-823D-6B065D5D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99ED-F7A7-46A7-8307-56016323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FA85-5ADF-45A8-A2AA-46F2540F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04ED-880F-4DCB-9858-9DE2C06D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B224-0EC3-4002-8E5D-6E294602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504A-171D-433B-B123-7080812A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7DCD-A0D5-4C8B-A12B-BE086B8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624-0496-407C-8844-3023CCA1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CB82-3F97-459D-92B7-572C19A4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ADDD-3861-4050-BE6C-12AABEB0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AB60-FEA6-4F38-8FB6-DD362ED4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F5D2-D1E1-4B69-A6E2-6A3A48A5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3ACD-B2C3-4F73-8E65-8313AD4A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3C7B-CD6F-469B-9512-4B0EC51D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530-CA7D-491A-8030-26EF7A4C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0AA-C33F-40D1-A1EB-EA0949A1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664-AE28-411F-B1C3-96E547DC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8F8-C419-4747-A2E4-05B42916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735-6B98-40E4-A4EA-9EA33AB2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4A6-A219-4F28-B328-3D7138E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6884-E8A8-41E2-A3D9-28F294E0DCF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F569-0B16-4FFD-A2A1-F7D38EF9A7B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Arial"/>
              </a:rPr>
              <a:t>Unit 5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2438280"/>
            <a:ext cx="4724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Silver Scree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ne with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the Wi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Gone%20with%20the%20wind" descr=""/>
          <p:cNvPicPr/>
          <p:nvPr/>
        </p:nvPicPr>
        <p:blipFill>
          <a:blip r:embed="rId1"/>
          <a:stretch/>
        </p:blipFill>
        <p:spPr>
          <a:xfrm>
            <a:off x="0" y="0"/>
            <a:ext cx="444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Harry%20Potte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Write a curriculum vitae (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履历表）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of  your favorite actor/actress/director/produce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GulimChe"/>
                <a:ea typeface="GulimChe"/>
              </a:rPr>
              <a:t>Get as much information as much as possible through the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S00580_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2819520" cy="2522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48006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28600" y="1676520"/>
            <a:ext cx="8915040" cy="4571640"/>
            <a:chOff x="228600" y="1676520"/>
            <a:chExt cx="8915040" cy="4571640"/>
          </a:xfrm>
        </p:grpSpPr>
        <p:grpSp>
          <p:nvGrpSpPr>
            <p:cNvPr id="122" name=""/>
            <p:cNvGrpSpPr/>
            <p:nvPr/>
          </p:nvGrpSpPr>
          <p:grpSpPr>
            <a:xfrm>
              <a:off x="235080" y="1681560"/>
              <a:ext cx="8900640" cy="4560840"/>
              <a:chOff x="235080" y="1681560"/>
              <a:chExt cx="8900640" cy="45608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35080" y="1681560"/>
                <a:ext cx="1922400" cy="844200"/>
                <a:chOff x="235080" y="1681560"/>
                <a:chExt cx="1922400" cy="844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34800" y="168156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rst nam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5080" y="168156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157840" y="1681560"/>
                <a:ext cx="1649160" cy="844200"/>
                <a:chOff x="2157840" y="1681560"/>
                <a:chExt cx="1649160" cy="84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57560" y="1681560"/>
                  <a:ext cx="14497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57840" y="1681560"/>
                  <a:ext cx="164916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807720" y="1681560"/>
                <a:ext cx="1231920" cy="844200"/>
                <a:chOff x="3807720" y="1681560"/>
                <a:chExt cx="1231920" cy="84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906720" y="1681560"/>
                  <a:ext cx="10328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ur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am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07720" y="1681560"/>
                  <a:ext cx="12319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040000" y="1681560"/>
                <a:ext cx="1635120" cy="844200"/>
                <a:chOff x="5040000" y="1681560"/>
                <a:chExt cx="1635120" cy="844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139000" y="1681560"/>
                  <a:ext cx="1436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40000" y="1681560"/>
                  <a:ext cx="1635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675840" y="1681560"/>
                <a:ext cx="1301400" cy="844200"/>
                <a:chOff x="6675840" y="1681560"/>
                <a:chExt cx="1301400" cy="844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775560" y="1681560"/>
                  <a:ext cx="11023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nd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75840" y="1681560"/>
                  <a:ext cx="1301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977600" y="1681560"/>
                <a:ext cx="1158120" cy="844200"/>
                <a:chOff x="7977600" y="1681560"/>
                <a:chExt cx="1158120" cy="844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077320" y="1681560"/>
                  <a:ext cx="959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977600" y="1681560"/>
                  <a:ext cx="1158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35080" y="2526120"/>
                <a:ext cx="1922400" cy="843840"/>
                <a:chOff x="235080" y="2526120"/>
                <a:chExt cx="1922400" cy="843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4800" y="2526120"/>
                  <a:ext cx="172296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day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35080" y="2526120"/>
                  <a:ext cx="192240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57840" y="2526120"/>
                <a:ext cx="1649160" cy="843840"/>
                <a:chOff x="2157840" y="2526120"/>
                <a:chExt cx="1649160" cy="843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257560" y="2526120"/>
                  <a:ext cx="144972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57840" y="2526120"/>
                  <a:ext cx="16491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807720" y="2526120"/>
                <a:ext cx="1231920" cy="843840"/>
                <a:chOff x="3807720" y="2526120"/>
                <a:chExt cx="1231920" cy="843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906720" y="2526120"/>
                  <a:ext cx="10328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-plac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807720" y="2526120"/>
                  <a:ext cx="12319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040000" y="2526120"/>
                <a:ext cx="4095360" cy="843840"/>
                <a:chOff x="5040000" y="2526120"/>
                <a:chExt cx="4095360" cy="843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139000" y="2526120"/>
                  <a:ext cx="38966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40000" y="2526120"/>
                  <a:ext cx="40953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35080" y="3370680"/>
                <a:ext cx="1922400" cy="675360"/>
                <a:chOff x="235080" y="3370680"/>
                <a:chExt cx="1922400" cy="675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800" y="3370680"/>
                  <a:ext cx="172296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chooling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5080" y="3370680"/>
                  <a:ext cx="192240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157840" y="3370680"/>
                <a:ext cx="6977880" cy="675360"/>
                <a:chOff x="2157840" y="3370680"/>
                <a:chExt cx="6977880" cy="6753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257560" y="3370680"/>
                  <a:ext cx="677880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57840" y="3370680"/>
                  <a:ext cx="697788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5080" y="4046760"/>
                <a:ext cx="1922400" cy="675000"/>
                <a:chOff x="235080" y="4046760"/>
                <a:chExt cx="1922400" cy="675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4800" y="404676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eer in fil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5080" y="404676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57840" y="4046760"/>
                <a:ext cx="6977880" cy="675000"/>
                <a:chOff x="2157840" y="4046760"/>
                <a:chExt cx="6977880" cy="675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57560" y="404676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57840" y="404676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5080" y="4722480"/>
                <a:ext cx="1922400" cy="675000"/>
                <a:chOff x="235080" y="4722480"/>
                <a:chExt cx="1922400" cy="675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4800" y="472248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lms &amp; rol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5080" y="472248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57840" y="4722480"/>
                <a:ext cx="6977880" cy="675000"/>
                <a:chOff x="2157840" y="4722480"/>
                <a:chExt cx="6977880" cy="675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257560" y="472248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57840" y="472248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5080" y="5398200"/>
                <a:ext cx="1922400" cy="844200"/>
                <a:chOff x="235080" y="5398200"/>
                <a:chExt cx="1922400" cy="844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4800" y="539820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chievemen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宋体"/>
                    </a:rPr>
                    <a:t>成就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5080" y="539820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157840" y="5398200"/>
                <a:ext cx="6977880" cy="844200"/>
                <a:chOff x="2157840" y="5398200"/>
                <a:chExt cx="6977880" cy="844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257560" y="5398200"/>
                  <a:ext cx="677880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57840" y="5398200"/>
                  <a:ext cx="697788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228600" y="1676520"/>
              <a:ext cx="8915040" cy="4571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666880" y="6094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curriculum vita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220968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THANK YO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anic2" descr=""/>
          <p:cNvPicPr/>
          <p:nvPr/>
        </p:nvPicPr>
        <p:blipFill>
          <a:blip r:embed="rId1"/>
          <a:stretch/>
        </p:blipFill>
        <p:spPr>
          <a:xfrm>
            <a:off x="0" y="0"/>
            <a:ext cx="35593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or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r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rect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y a role of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w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scar Award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llywoo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m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ffectional film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爱情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tective film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侦探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racula film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恐怖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thical film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伦理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als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音乐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rtoon film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卡通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cience and fiction film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科幻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tion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作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rtial film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战争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orror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惊险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1480" y="304560"/>
            <a:ext cx="3276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Titanic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TITANICB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 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atrix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ding Ne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to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findingnemo_d" descr=""/>
          <p:cNvPicPr/>
          <p:nvPr/>
        </p:nvPicPr>
        <p:blipFill>
          <a:blip r:embed="rId1"/>
          <a:stretch/>
        </p:blipFill>
        <p:spPr>
          <a:xfrm>
            <a:off x="0" y="0"/>
            <a:ext cx="39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007 Die Another 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007_dieanotherday_b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rassic Pa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Jurassic%20park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iderma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spiderman2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04:31Z</dcterms:created>
  <dc:creator> </dc:creator>
  <dc:description/>
  <dc:language>en-US</dc:language>
  <cp:lastModifiedBy> </cp:lastModifiedBy>
  <dcterms:modified xsi:type="dcterms:W3CDTF">2003-10-15T01:11:02Z</dcterms:modified>
  <cp:revision>8</cp:revision>
  <dc:subject/>
  <dc:title>Unit 5</dc:title>
</cp:coreProperties>
</file>